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CHIMES.WAV" ContentType="audio/x-wav"/>
  <Override PartName="/ppt/media/image6.wmf" ContentType="image/x-wmf"/>
  <Override PartName="/ppt/media/image11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C363-E0C3-46AC-853D-F38620F73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55B9-368C-4704-88F4-053F3C788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56F1-F064-4660-8493-8FA86AFF9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B910-47A2-4479-8962-E98C50618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8D34-E4B8-48EB-AFBA-D6CD087A3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209F-3546-4DBA-882A-E31F3448F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2854-230F-4A2D-98B4-7C408DAF9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31F2-BD45-4110-9001-557EA8065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F4DF-E88A-4C75-83F6-74FD2453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857-5824-45A7-A6F1-FE85B1C8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3DE-AF04-4532-B1D2-CF2E3963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2F5-E2A2-49DD-9856-6BEDE1CE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EB06-5345-4F52-89E3-D58F8F1D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5AA6-4830-47AA-9991-3BEB5A03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0E87-A7EE-4159-9ADC-51061D18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14D7-BCE6-4F94-BE84-37CF5ACE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C1B9-5C30-41E0-8261-F9CC74C5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17C9-E3B9-43BA-B24D-B7D571FC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2CE1-A9BD-4FB1-BC3F-47E5BBCE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9A1-D7B7-4049-8F84-1957E5C1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C3A2-FC61-4C81-B670-BA1FF580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62A4-124D-4368-A3EF-B8C69AF0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BF7B-8905-4BEA-8BA5-C798DDFC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B0A3-8EC8-4CF9-9573-D5449A01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1049-4BC7-4982-B442-C910CAF5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2B9D-35EF-4ED2-99E6-6C793501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83A-E2E8-4D85-980A-D089E282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5277-C5A8-4EDF-982F-E03D2762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D2C-B7DE-4331-AE63-8AAB7F55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E0E-2CB0-4D2E-9D36-6279D08A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DF1-E370-4330-B62F-710EACA0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B73-BB95-4458-90CB-C89875F1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Rectangle 3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DE93-B429-4D1F-8199-17252FDF2BC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Rectangle 3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C440-568C-400A-8724-E90E25FF50D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hilosophies of Educ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hilosophical positions and statements of purp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sentialism (2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ssentialism avoids some of the waste inherent with experimentalis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t it can become so conservative that it fails to truly educ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Object 4" descr=""/>
          <p:cNvPicPr/>
          <p:nvPr/>
        </p:nvPicPr>
        <p:blipFill>
          <a:blip r:embed="rId1"/>
          <a:stretch/>
        </p:blipFill>
        <p:spPr>
          <a:xfrm>
            <a:off x="4648320" y="2619360"/>
            <a:ext cx="3809880" cy="3141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676160" y="2285640"/>
            <a:ext cx="6476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mphasis on a traditional   educ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Development of the mi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ore curriculu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Reality is based in the physical worl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eacher-directed learn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WordArt 3"/>
          <p:cNvSpPr txBox="1"/>
          <p:nvPr/>
        </p:nvSpPr>
        <p:spPr>
          <a:xfrm>
            <a:off x="1600200" y="5335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What is Essentialism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676160" y="190512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Reading, spelling, language ar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Mathematics, U. S. &amp; World Hist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No vocational education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WordArt 3"/>
          <p:cNvSpPr txBox="1"/>
          <p:nvPr/>
        </p:nvSpPr>
        <p:spPr>
          <a:xfrm>
            <a:off x="838080" y="68580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What would essentialists teach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676160" y="1828800"/>
            <a:ext cx="6553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Standardized tests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Criterion referenced test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Not as likely to require portfoli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WordArt 3"/>
          <p:cNvSpPr txBox="1"/>
          <p:nvPr/>
        </p:nvSpPr>
        <p:spPr>
          <a:xfrm>
            <a:off x="1066680" y="380880"/>
            <a:ext cx="7086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How essentialists would evaluat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student's learning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371240" y="213336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Using only text boo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Seated row by r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eacher lecture, students lis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Punishment--attempted behaviorism but without experti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WordArt 3"/>
          <p:cNvSpPr txBox="1"/>
          <p:nvPr/>
        </p:nvSpPr>
        <p:spPr>
          <a:xfrm>
            <a:off x="1219320" y="53352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Classroom manag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676160" y="1905120"/>
            <a:ext cx="6476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each the basic civilized skills of reading, spelling and measuring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Limit education’s responsibility--let industry teach vocational subj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1066680" y="533520"/>
            <a:ext cx="716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Orientation of Essentialis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676160" y="2285640"/>
            <a:ext cx="6476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Writing te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ultiple choi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rue/Fal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inary-Cho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atching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WordArt 3"/>
          <p:cNvSpPr txBox="1"/>
          <p:nvPr/>
        </p:nvSpPr>
        <p:spPr>
          <a:xfrm>
            <a:off x="1600200" y="5335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Reality tes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676160" y="2285640"/>
            <a:ext cx="6476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All students will remember the basic information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All students will learn how to pass the tes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WordArt 3"/>
          <p:cNvSpPr txBox="1"/>
          <p:nvPr/>
        </p:nvSpPr>
        <p:spPr>
          <a:xfrm>
            <a:off x="1600200" y="5335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Future orient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perimental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xperimentalism is associated with a very broad but shallow curriculum.  Many electives, few required subject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xperimentalism is friendly to educational research, and many new ideas come from it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perimentalism (2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7" name="Object 3" descr=""/>
          <p:cNvPicPr/>
          <p:nvPr/>
        </p:nvPicPr>
        <p:blipFill>
          <a:blip r:embed="rId1"/>
          <a:stretch/>
        </p:blipFill>
        <p:spPr>
          <a:xfrm>
            <a:off x="685800" y="2414520"/>
            <a:ext cx="3809880" cy="35514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t experimentalism can be wasteful of resour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t can also fail to follow throug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commodates fads  too easil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ools of Philosophers (1 0f 3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xiology is the study of values; it asks the question of “What is good?”  From axiology, we arrive at an understanding of “What is good?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e get ethics from the study of axiolog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perimental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perimentalist teachers like to </a:t>
            </a:r>
            <a:r>
              <a:rPr b="0" lang="en-US" sz="2800" spc="-1" strike="noStrike">
                <a:solidFill>
                  <a:srgbClr val="a50021"/>
                </a:solidFill>
                <a:latin typeface="Arial Black"/>
              </a:rPr>
              <a:t>tinker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or experi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y don’t like to leave things the same all the tim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Object 4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2284560" cy="4114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assroom Management for Experimentalis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n’t like bmod or assertive disciplin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efer more constructivistic approaches such as Discipline with Dign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4" name="Picture 5" descr="C:\Documents and Settings\sid.womack\Application Data\Microsoft\Media Catalog\Downloaded Clips\cl23\j0088928.wmf"/>
          <p:cNvPicPr/>
          <p:nvPr/>
        </p:nvPicPr>
        <p:blipFill>
          <a:blip r:embed="rId1"/>
          <a:stretch/>
        </p:blipFill>
        <p:spPr>
          <a:xfrm>
            <a:off x="685800" y="2233440"/>
            <a:ext cx="3809880" cy="3913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experimentalists would teac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6" name="Object 3" descr=""/>
          <p:cNvPicPr/>
          <p:nvPr/>
        </p:nvPicPr>
        <p:blipFill>
          <a:blip r:embed="rId1"/>
          <a:stretch/>
        </p:blipFill>
        <p:spPr>
          <a:xfrm>
            <a:off x="685800" y="2690640"/>
            <a:ext cx="3809880" cy="29988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Everything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-anything that had any relation to students’ possible futur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as been accused of trying to do the home’s job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ere experimentalism shi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en essentialism or perennialism have been in power for so long, school programs have become stagna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en school has become all work and no p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en traditional methods have become ineffectiv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rennial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ennialism was prevalent in the early seventies in U. 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ennialism reveres the experience of teachers who have been there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eavy orientation to the past 20 years--almost nil attention to the futu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Perennial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Perennialists like to teach time-honored curricula, including the classics such as Plato an Aristot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They don’t like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hange</a:t>
            </a: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4" name="Object 4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3240000" cy="3328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Perennialism</a:t>
            </a:r>
            <a:r>
              <a:rPr b="0" lang="en-US" sz="4400" spc="-1" strike="noStrike">
                <a:solidFill>
                  <a:srgbClr val="000099"/>
                </a:solidFill>
                <a:latin typeface="Arial Black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 Black"/>
              </a:rPr>
              <a:t>They would include subjects such a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English litera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World Geograph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8006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Alg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Trigon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Ancient Ge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World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U.S.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Book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Perennialist Evaluation Methodolog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</a:rPr>
              <a:t>Teacher-made tes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</a:rPr>
              <a:t>Standardized te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</a:rPr>
              <a:t>Memory work (“mind is a muscle”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</a:rPr>
              <a:t>Spelling be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Classroom Manag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</a:rPr>
              <a:t>Assign seats in rows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lnSpc>
                <a:spcPct val="16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</a:rPr>
              <a:t>Be strict, but not necessarily expert, with punishment and reward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lnSpc>
                <a:spcPct val="16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</a:rPr>
              <a:t>Set up classroom rules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Orientation Expect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</a:rPr>
              <a:t>Self-contained knowledge--teacher is supposed to know all the answer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</a:rPr>
              <a:t>Teacher is the “fountain of all knowledge.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 Black"/>
              </a:rPr>
              <a:t>Students are passive listen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in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ools of Philosopher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(2 of 3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pistemology—”How do we know what is true?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s is a live question today—Do we listen to standardized test results to determine how much students know, or read their portfolios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Reality Testing for Perennialis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 Black"/>
              </a:rPr>
              <a:t>Paper-pencil tes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 Black"/>
              </a:rPr>
              <a:t>Recit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 Black"/>
              </a:rPr>
              <a:t>Standardized tes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6" name="Object 4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3049560" cy="358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Future Orientation for Perennialis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 Black"/>
              </a:rPr>
              <a:t>Expect future to continue in the same vein as the pres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 Black"/>
              </a:rPr>
              <a:t>Belief that knowing the classics of the past will equip students for the futu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ere Perennialism Shi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ennialism does help to dampen the uncertain effects of the fads that come to educ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t every new idea is a good one, or one that will even be effective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ennialism plays well to traditional communiti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ehavior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ehaviorism believes in a science of behavior that would shape the world into a better place to liv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ehaviorists to some degree rightfully claim that behaviorism naturally occurs in the world whether people acknowledge it or no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behaviorists believ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haviorists believe in a science of behavior\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y rely heavily on scientific studies of behavior and how behavior is influenced by its consequ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Object 4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50352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behaviorists would teac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ehaviorists are at least as concerned about how people behave as what they know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y do not tend to be big innovators in curriculu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y will however give a fair trial to any new curricula that someone else might writ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hecker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ere Behaviorism shi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pecial ed situations, where students do not pick up on subtle cues about learning or behavi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lternative and problem scho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0" name="Picture 1029" descr="C:\Documents and Settings\sid.womack\Application Data\Microsoft\Media Catalog\Downloaded Clips\cl0\bl00552_.wmf"/>
          <p:cNvPicPr/>
          <p:nvPr/>
        </p:nvPicPr>
        <p:blipFill>
          <a:blip r:embed="rId1"/>
          <a:stretch/>
        </p:blipFill>
        <p:spPr>
          <a:xfrm>
            <a:off x="4648320" y="276372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ere behaviorism will come sho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tuations where behavior is not so much the need as the learning of academic cont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tuations where students have internalized appropriate behavior and behavior does not need to be emphasized at the expense of scholarship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hecke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construction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onstructionists point to a time in the past when they believe that things were bett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y would re-create education to be like things were back during that tim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y cite research, particularly historical, to show that things are not going well now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reconstructionists believ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3779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construction-ists point to a time in the past when they believe that things were bett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y would re-create education to be like things were back during that ti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Object 4" descr=""/>
          <p:cNvPicPr/>
          <p:nvPr/>
        </p:nvPicPr>
        <p:blipFill>
          <a:blip r:embed="rId1"/>
          <a:stretch/>
        </p:blipFill>
        <p:spPr>
          <a:xfrm>
            <a:off x="5154480" y="2133720"/>
            <a:ext cx="27957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ools of Philosoph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(3 of 3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taphysics is somewhat related to epistemology and asks the question “What is real?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e the things that are real only the things that can be touched and measured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ehaviorists vs. existentialis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Ba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reconstructionists would teac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onstructionists would teach the subjects that were taught during that “golden age.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subjects would be those that were taught during that time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f the 1960s, for instance, they would teach usage of the slide rule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pull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ne example of Reconstruction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946—right after the Second World Wa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Is wanted schools and society to return to what they were before Pearl Harb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2" name="Picture 1029" descr="C:\Microsoft Office97\Clipart\Popular\destryer.wmf"/>
          <p:cNvPicPr/>
          <p:nvPr/>
        </p:nvPicPr>
        <p:blipFill>
          <a:blip r:embed="rId1"/>
          <a:stretch/>
        </p:blipFill>
        <p:spPr>
          <a:xfrm>
            <a:off x="4648320" y="2190600"/>
            <a:ext cx="3809880" cy="3999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constructionists and technolog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ir orientation is very much to the pas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y and perennialists do not react immediately and positively to new 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5" name="Object 4" descr=""/>
          <p:cNvPicPr/>
          <p:nvPr/>
        </p:nvPicPr>
        <p:blipFill>
          <a:blip r:embed="rId1"/>
          <a:stretch/>
        </p:blipFill>
        <p:spPr>
          <a:xfrm>
            <a:off x="4648320" y="2673360"/>
            <a:ext cx="3809880" cy="3033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istential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xistentialists celebrate the human existenc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ery subjectiv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mphasis on meaning within each individu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y doubt external realit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mphasis on pres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pull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existentialists believ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istentialists believe in the consciousness of the sel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y are very concerned with whether students find school to be a satisfying experien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0" name="Object 4" descr=""/>
          <p:cNvPicPr/>
          <p:nvPr/>
        </p:nvPicPr>
        <p:blipFill>
          <a:blip r:embed="rId1"/>
          <a:stretch/>
        </p:blipFill>
        <p:spPr>
          <a:xfrm>
            <a:off x="5611680" y="2133720"/>
            <a:ext cx="18828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existentialists would teac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t the same subjects to everyone, since not everyone would enjoy the same thing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y would emphasize self-esteem and a feeling of self-wort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y would include topics such as values clarification and . . . 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 example of existential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960—Summerhill School in Englan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970s in some parts of America—self esteem, values clarific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Picture 5" descr="C:\Microsoft Office97\Clipart\Popular\flower.wmf"/>
          <p:cNvPicPr/>
          <p:nvPr/>
        </p:nvPicPr>
        <p:blipFill>
          <a:blip r:embed="rId1"/>
          <a:stretch/>
        </p:blipFill>
        <p:spPr>
          <a:xfrm>
            <a:off x="1168560" y="2133720"/>
            <a:ext cx="284292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 healthy bala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ch of the six philosophies has something to off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only hazard happens when one philosophy rules for a long period of ti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9" name="Object 4" descr=""/>
          <p:cNvPicPr/>
          <p:nvPr/>
        </p:nvPicPr>
        <p:blipFill>
          <a:blip r:embed="rId1"/>
          <a:stretch/>
        </p:blipFill>
        <p:spPr>
          <a:xfrm>
            <a:off x="4648320" y="268596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urposes for Educ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lda Taba, 1962--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t the cultural heritag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form the cul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ximize human potenti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802040" y="213372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Seven Cardinal Principles (1 of 2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20574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ven Cardinal Principles of Secondary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on Re-organization of Secondary Education (191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 of fundamental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thy home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cational compe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Seven Cardinal Principles (2 of 2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1981080"/>
            <a:ext cx="9144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ven Cardinal Principles of Secondary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on Re-organization of Secondary Education (191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ize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thy use of leisur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ical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ut what do these mean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aning comes from at least six philosophical positions that “filter” or influence how people perceive educational event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5027760" y="2133720"/>
            <a:ext cx="304956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sential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lmost an entire generation in America has grown up under essentialism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ssentialism is a conservative view of curriculum that holds schools responsible for only the most immediately needed instruction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6:08:28Z</dcterms:created>
  <dc:creator>Sid T. Womack</dc:creator>
  <dc:description/>
  <dc:language>en-US</dc:language>
  <cp:lastModifiedBy>Thiry-Wenz, Andrea</cp:lastModifiedBy>
  <dcterms:modified xsi:type="dcterms:W3CDTF">2011-09-19T20:14:09Z</dcterms:modified>
  <cp:revision>18</cp:revision>
  <dc:subject/>
  <dc:title>Philosophies of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education.atu.edu/people/swomack</vt:lpwstr>
  </property>
  <property fmtid="{D5CDD505-2E9C-101B-9397-08002B2CF9AE}" pid="9" name="LinkColor">
    <vt:r8>16711782</vt:r8>
  </property>
  <property fmtid="{D5CDD505-2E9C-101B-9397-08002B2CF9AE}" pid="10" name="MailAddress">
    <vt:lpwstr>sid.womack@mail.atu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\Web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